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DB6F-B13A-4762-ADE1-A38852C307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D9A1-EFC8-4F3F-92C8-896C54F9CA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1548-383D-4F6A-8FA4-04536A4F85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4434-2A20-46D8-90DC-6957548354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45A5-4A18-4983-AA2C-5C94F55338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C34B-912E-4BD2-B1E3-B2E7AA6672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7045-E279-4AC9-93BA-9C878DE285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B55B-F8DA-4405-9EA3-04327940E8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2677-CBD4-4655-ACA9-8F790489EB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70E7-0EE1-45A1-A4C5-D84E9743EA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C408-07D5-4F85-9717-1078E117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D13F-EDAE-4E0E-BB21-A66021B4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036-C6CA-47EC-B460-263C2738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B46A-6D6E-4372-9CF8-44D6759E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0361-8789-468A-BEE1-12E023CD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5391-68F5-4CBA-8838-31A4B80E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B7A-5B4A-4AC1-A98D-73ACF585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2452-2DF6-47F7-9ACC-B567C55B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A58-661D-4730-BADB-C88DCFAC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F76A-F802-4B9B-BD3D-D7771D2B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0F1B-FF76-437B-8229-00F6885D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0679-1E89-47FC-B121-C2622B89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E6A3-566B-437A-B698-66602996AE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3"/>
          <p:cNvSpPr/>
          <p:nvPr/>
        </p:nvSpPr>
        <p:spPr>
          <a:xfrm>
            <a:off x="263520" y="4348080"/>
            <a:ext cx="33685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50920" y="221472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1267"/>
                </a:solidFill>
                <a:latin typeface="Calibri"/>
              </a:rPr>
              <a:t>Сообщество «Сделаем вместе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sp>
        <p:nvSpPr>
          <p:cNvPr id="51" name="Content Placeholder 4"/>
          <p:cNvSpPr/>
          <p:nvPr/>
        </p:nvSpPr>
        <p:spPr>
          <a:xfrm>
            <a:off x="468360" y="2984400"/>
            <a:ext cx="84978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- это 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сотни тысяч добровольцев, которые, независимо от политических и религиозных взглядов или профессиональных предпочтений,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содействуют развитию в России современной отрасли по обращению с отходами.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  Работа в этом направлении направлена на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повышение качества окружающей среды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, привлечение внимания населения к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проблемам экологии и способам их ре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rcRect l="6002" t="0" r="4252" b="0"/>
          <a:stretch/>
        </p:blipFill>
        <p:spPr>
          <a:xfrm>
            <a:off x="272880" y="4751280"/>
            <a:ext cx="1846440" cy="80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1947960" y="5537160"/>
            <a:ext cx="1485720" cy="933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4"/>
          <a:stretch/>
        </p:blipFill>
        <p:spPr>
          <a:xfrm>
            <a:off x="423720" y="5603760"/>
            <a:ext cx="1362240" cy="866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5"/>
          <a:stretch/>
        </p:blipFill>
        <p:spPr>
          <a:xfrm>
            <a:off x="2195640" y="4732200"/>
            <a:ext cx="1238040" cy="771840"/>
          </a:xfrm>
          <a:prstGeom prst="rect">
            <a:avLst/>
          </a:prstGeom>
          <a:ln w="0">
            <a:noFill/>
          </a:ln>
        </p:spPr>
      </p:pic>
      <p:sp>
        <p:nvSpPr>
          <p:cNvPr id="56" name="Content Placeholder 4"/>
          <p:cNvSpPr/>
          <p:nvPr/>
        </p:nvSpPr>
        <p:spPr>
          <a:xfrm>
            <a:off x="4365720" y="4348080"/>
            <a:ext cx="455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Проект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«ЭкоЗн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Мероприятия, материалы, пособия по 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кологическому просвеще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4"/>
          <p:cNvSpPr/>
          <p:nvPr/>
        </p:nvSpPr>
        <p:spPr>
          <a:xfrm>
            <a:off x="1104840" y="4348080"/>
            <a:ext cx="18511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Наши 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4"/>
          <p:cNvSpPr/>
          <p:nvPr/>
        </p:nvSpPr>
        <p:spPr>
          <a:xfrm>
            <a:off x="2195640" y="4732200"/>
            <a:ext cx="1238040" cy="871560"/>
          </a:xfrm>
          <a:prstGeom prst="ellipse">
            <a:avLst/>
          </a:prstGeom>
          <a:noFill/>
          <a:ln w="25560">
            <a:solidFill>
              <a:srgbClr val="f212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право 16"/>
          <p:cNvSpPr/>
          <p:nvPr/>
        </p:nvSpPr>
        <p:spPr>
          <a:xfrm>
            <a:off x="3632040" y="5111640"/>
            <a:ext cx="733680" cy="72072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1"/>
          <p:cNvSpPr/>
          <p:nvPr/>
        </p:nvSpPr>
        <p:spPr>
          <a:xfrm>
            <a:off x="4383000" y="4348080"/>
            <a:ext cx="453888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4"/>
          <p:cNvSpPr/>
          <p:nvPr/>
        </p:nvSpPr>
        <p:spPr>
          <a:xfrm>
            <a:off x="4527720" y="5348160"/>
            <a:ext cx="368928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Мультфиль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Печатные 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6409e"/>
                </a:solidFill>
                <a:uFillTx/>
                <a:latin typeface="Calibri"/>
              </a:rPr>
              <a:t>Эко-у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Documents and Settings\Sea\Рабочий стол\ЭкоЗнание\Комикс\Plakats_3(2).jpg"/>
          <p:cNvPicPr/>
          <p:nvPr/>
        </p:nvPicPr>
        <p:blipFill>
          <a:blip r:embed="rId6"/>
          <a:stretch/>
        </p:blipFill>
        <p:spPr>
          <a:xfrm>
            <a:off x="7280280" y="5397480"/>
            <a:ext cx="14400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7547040" y="3816360"/>
            <a:ext cx="695160" cy="13842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Эко-уроки «Сделаем вместе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ontent Placeholder 4"/>
          <p:cNvSpPr/>
          <p:nvPr/>
        </p:nvSpPr>
        <p:spPr>
          <a:xfrm>
            <a:off x="395280" y="3357720"/>
            <a:ext cx="4753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Sea\Рабочий стол\ЭкоЗнание\Детская акция - стоп-кадры\Детская акция Убирай-ка! в с. Красный путь[(000571)14-13-24].JPG"/>
          <p:cNvPicPr/>
          <p:nvPr/>
        </p:nvPicPr>
        <p:blipFill>
          <a:blip r:embed="rId3"/>
          <a:stretch/>
        </p:blipFill>
        <p:spPr>
          <a:xfrm>
            <a:off x="92160" y="5237280"/>
            <a:ext cx="1985760" cy="2474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Documents and Settings\Sea\Рабочий стол\ЭкоЗнание\Детская акция - стоп-кадры\Детская акция Убирай-ка! в с. Красный путь[(000781)14-13-48].JPG"/>
          <p:cNvPicPr/>
          <p:nvPr/>
        </p:nvPicPr>
        <p:blipFill>
          <a:blip r:embed="rId4"/>
          <a:stretch/>
        </p:blipFill>
        <p:spPr>
          <a:xfrm>
            <a:off x="2371680" y="5224320"/>
            <a:ext cx="2035080" cy="2505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Documents and Settings\Sea\Рабочий стол\ЭкоЗнание\Отчет (Детская акция)\Ленинский\7 октября д.д молодая гвардия\DSC00753.JPG"/>
          <p:cNvPicPr/>
          <p:nvPr/>
        </p:nvPicPr>
        <p:blipFill>
          <a:blip r:embed="rId5"/>
          <a:stretch/>
        </p:blipFill>
        <p:spPr>
          <a:xfrm>
            <a:off x="4730760" y="5237280"/>
            <a:ext cx="2041560" cy="247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Sea\Рабочий стол\ЭкоЗнание\Отчет (Детская акция)\Солнечногорский\IMG_4526.JPG"/>
          <p:cNvPicPr/>
          <p:nvPr/>
        </p:nvPicPr>
        <p:blipFill>
          <a:blip r:embed="rId6"/>
          <a:stretch/>
        </p:blipFill>
        <p:spPr>
          <a:xfrm>
            <a:off x="7034040" y="5267160"/>
            <a:ext cx="1976760" cy="2413080"/>
          </a:xfrm>
          <a:prstGeom prst="rect">
            <a:avLst/>
          </a:prstGeom>
          <a:ln w="0">
            <a:noFill/>
          </a:ln>
        </p:spPr>
      </p:pic>
      <p:sp>
        <p:nvSpPr>
          <p:cNvPr id="71" name="Скругленный прямоугольник 2"/>
          <p:cNvSpPr/>
          <p:nvPr/>
        </p:nvSpPr>
        <p:spPr>
          <a:xfrm>
            <a:off x="187200" y="3429000"/>
            <a:ext cx="215928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8"/>
          <p:cNvSpPr/>
          <p:nvPr/>
        </p:nvSpPr>
        <p:spPr>
          <a:xfrm>
            <a:off x="2390760" y="3429000"/>
            <a:ext cx="216072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0"/>
          <p:cNvSpPr/>
          <p:nvPr/>
        </p:nvSpPr>
        <p:spPr>
          <a:xfrm>
            <a:off x="4595760" y="3429000"/>
            <a:ext cx="215892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21"/>
          <p:cNvSpPr/>
          <p:nvPr/>
        </p:nvSpPr>
        <p:spPr>
          <a:xfrm>
            <a:off x="6799320" y="3429000"/>
            <a:ext cx="216036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ontent Placeholder 4"/>
          <p:cNvSpPr/>
          <p:nvPr/>
        </p:nvSpPr>
        <p:spPr>
          <a:xfrm>
            <a:off x="6831000" y="342900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олгоср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tent Placeholder 4"/>
          <p:cNvSpPr/>
          <p:nvPr/>
        </p:nvSpPr>
        <p:spPr>
          <a:xfrm>
            <a:off x="6831000" y="4403880"/>
            <a:ext cx="20970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фф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7"/>
          <a:stretch/>
        </p:blipFill>
        <p:spPr>
          <a:xfrm>
            <a:off x="5073480" y="3830760"/>
            <a:ext cx="1203480" cy="633240"/>
          </a:xfrm>
          <a:prstGeom prst="rect">
            <a:avLst/>
          </a:prstGeom>
          <a:ln w="0">
            <a:noFill/>
          </a:ln>
        </p:spPr>
      </p:pic>
      <p:sp>
        <p:nvSpPr>
          <p:cNvPr id="78" name="Content Placeholder 4"/>
          <p:cNvSpPr/>
          <p:nvPr/>
        </p:nvSpPr>
        <p:spPr>
          <a:xfrm>
            <a:off x="4626000" y="342900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ля детей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4"/>
          <p:cNvSpPr/>
          <p:nvPr/>
        </p:nvSpPr>
        <p:spPr>
          <a:xfrm>
            <a:off x="4803840" y="4395960"/>
            <a:ext cx="174312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4"/>
          <p:cNvSpPr/>
          <p:nvPr/>
        </p:nvSpPr>
        <p:spPr>
          <a:xfrm>
            <a:off x="219240" y="3429000"/>
            <a:ext cx="2095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в школа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tent Placeholder 4"/>
          <p:cNvSpPr/>
          <p:nvPr/>
        </p:nvSpPr>
        <p:spPr>
          <a:xfrm>
            <a:off x="219240" y="4395960"/>
            <a:ext cx="20952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етских до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0560" y="2924280"/>
            <a:ext cx="871380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Уроки и практические занятия </a:t>
            </a: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– первый шаг в </a:t>
            </a: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экологическом воспит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8"/>
          <a:stretch/>
        </p:blipFill>
        <p:spPr>
          <a:xfrm>
            <a:off x="743040" y="3795840"/>
            <a:ext cx="1047600" cy="703080"/>
          </a:xfrm>
          <a:prstGeom prst="rect">
            <a:avLst/>
          </a:prstGeom>
          <a:ln w="0">
            <a:noFill/>
          </a:ln>
        </p:spPr>
      </p:pic>
      <p:sp>
        <p:nvSpPr>
          <p:cNvPr id="84" name="Content Placeholder 4"/>
          <p:cNvSpPr/>
          <p:nvPr/>
        </p:nvSpPr>
        <p:spPr>
          <a:xfrm>
            <a:off x="2400480" y="346068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интерактивно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tent Placeholder 4"/>
          <p:cNvSpPr/>
          <p:nvPr/>
        </p:nvSpPr>
        <p:spPr>
          <a:xfrm>
            <a:off x="2581200" y="4330800"/>
            <a:ext cx="17352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нагля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Двойная стрелка влево/вправо 1"/>
          <p:cNvSpPr/>
          <p:nvPr/>
        </p:nvSpPr>
        <p:spPr>
          <a:xfrm>
            <a:off x="2627280" y="3973680"/>
            <a:ext cx="574560" cy="349200"/>
          </a:xfrm>
          <a:prstGeom prst="leftRightArrow">
            <a:avLst>
              <a:gd name="adj1" fmla="val 50000"/>
              <a:gd name="adj2" fmla="val 50001"/>
            </a:avLst>
          </a:prstGeom>
          <a:solidFill>
            <a:srgbClr val="92d050"/>
          </a:solidFill>
          <a:ln w="25560">
            <a:solidFill>
              <a:srgbClr val="719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4"/>
          <p:cNvSpPr/>
          <p:nvPr/>
        </p:nvSpPr>
        <p:spPr>
          <a:xfrm>
            <a:off x="3441600" y="3987720"/>
            <a:ext cx="0" cy="3650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9"/>
          <p:cNvGrpSpPr/>
          <p:nvPr/>
        </p:nvGrpSpPr>
        <p:grpSpPr>
          <a:xfrm>
            <a:off x="3641760" y="4000680"/>
            <a:ext cx="604800" cy="293400"/>
            <a:chOff x="3641760" y="4000680"/>
            <a:chExt cx="604800" cy="293400"/>
          </a:xfrm>
        </p:grpSpPr>
        <p:sp>
          <p:nvSpPr>
            <p:cNvPr id="89" name="Овал 6"/>
            <p:cNvSpPr/>
            <p:nvPr/>
          </p:nvSpPr>
          <p:spPr>
            <a:xfrm>
              <a:off x="3641760" y="4000680"/>
              <a:ext cx="604800" cy="293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Овал 7"/>
            <p:cNvSpPr/>
            <p:nvPr/>
          </p:nvSpPr>
          <p:spPr>
            <a:xfrm>
              <a:off x="3840120" y="4040280"/>
              <a:ext cx="20772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Цель  эко-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Повысить уровень 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кологической культуры и образования </a:t>
            </a: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в Росси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 части цивилизованного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обращения с отход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 части сознательного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 поведения на природ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3330720" y="4375080"/>
            <a:ext cx="23382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Задачи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ntent Placeholder 4"/>
          <p:cNvSpPr/>
          <p:nvPr/>
        </p:nvSpPr>
        <p:spPr>
          <a:xfrm>
            <a:off x="395280" y="3357720"/>
            <a:ext cx="8713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4"/>
          <p:cNvSpPr/>
          <p:nvPr/>
        </p:nvSpPr>
        <p:spPr>
          <a:xfrm>
            <a:off x="4637160" y="3789360"/>
            <a:ext cx="478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sp>
        <p:nvSpPr>
          <p:cNvPr id="99" name="Content Placeholder 4"/>
          <p:cNvSpPr/>
          <p:nvPr/>
        </p:nvSpPr>
        <p:spPr>
          <a:xfrm>
            <a:off x="1763640" y="2997360"/>
            <a:ext cx="6985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оказать всю серьезность проблемы отходов в России и в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Рассказать о возможных вариантах обращения с от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Рассказать о комплексном подходе как наилучшем реш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Объяснить, что каждый из нас может сделать для улучшения ситуации</a:t>
            </a:r>
            <a:br>
              <a:rPr sz="1800"/>
            </a:b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ровести урок, как яркое и запоминающееся собы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Снабдить учителей и детей красивыми и наглядными материалами, которые захочется сохранить и показать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Через детей донести информацию до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0" descr=""/>
          <p:cNvPicPr/>
          <p:nvPr/>
        </p:nvPicPr>
        <p:blipFill>
          <a:blip r:embed="rId2"/>
          <a:stretch/>
        </p:blipFill>
        <p:spPr>
          <a:xfrm>
            <a:off x="179280" y="2997360"/>
            <a:ext cx="158436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Содержание эко-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О проблеме отход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Почему мусора стало так м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Отходы накапливаются и никуда не исчезаю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Что делать с отход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Захоронение на полигон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Сжиг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торичная переработ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Компост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Комплексный подх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Игры и практические зад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Sea\Рабочий стол\ЭкоЗнание\Комикс\Plakats_2(2).jpg"/>
          <p:cNvPicPr/>
          <p:nvPr/>
        </p:nvPicPr>
        <p:blipFill>
          <a:blip r:embed="rId2"/>
          <a:stretch/>
        </p:blipFill>
        <p:spPr>
          <a:xfrm>
            <a:off x="4581360" y="4770360"/>
            <a:ext cx="2227320" cy="157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Picture 4" descr=""/>
          <p:cNvPicPr/>
          <p:nvPr/>
        </p:nvPicPr>
        <p:blipFill>
          <a:blip r:embed="rId3"/>
          <a:srcRect l="75002" t="10308" r="2147" b="36637"/>
          <a:stretch/>
        </p:blipFill>
        <p:spPr>
          <a:xfrm>
            <a:off x="7423200" y="4608360"/>
            <a:ext cx="1307880" cy="189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Picture 8" descr="C:\Documents and Settings\Sea\Рабочий стол\ЭкоЗнание\Убирайка\Фото\МусорВМире\МусорныйОстров-2.jpg"/>
          <p:cNvPicPr/>
          <p:nvPr/>
        </p:nvPicPr>
        <p:blipFill>
          <a:blip r:embed="rId4"/>
          <a:stretch/>
        </p:blipFill>
        <p:spPr>
          <a:xfrm>
            <a:off x="5638680" y="2664000"/>
            <a:ext cx="27990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Формат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Дли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45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Аудитория</a:t>
            </a:r>
            <a:r>
              <a:rPr b="1" lang="en-US" sz="1800" spc="-1" strike="noStrike">
                <a:solidFill>
                  <a:srgbClr val="16409e"/>
                </a:solidFill>
                <a:latin typeface="Calibri"/>
              </a:rPr>
              <a:t>/</a:t>
            </a: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кол-во преподава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30 человек – 1 преподав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60 человек – 2 преподава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90 человек – 3 преподава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Необходимое оборудо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ТВ или проектор, доска для рис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Дополнительные оп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Формат адаптируется под конкретные условия проведения эко-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роведение субботника (организация вывоза мусор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Documents and Settings\Sea\Рабочий стол\ЭкоЗнание\Детская акция - стоп-кадры\Детская акция Убирай-ка! в с. Красный путь[(000391)14-12-59].JPG"/>
          <p:cNvPicPr/>
          <p:nvPr/>
        </p:nvPicPr>
        <p:blipFill>
          <a:blip r:embed="rId2"/>
          <a:stretch/>
        </p:blipFill>
        <p:spPr>
          <a:xfrm>
            <a:off x="4857840" y="3498840"/>
            <a:ext cx="376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Организация серии ур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560" y="3284280"/>
            <a:ext cx="43210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Заявка на проведение уро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Расчет стои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одписание догов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одбор и обучение волонте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Согласование с учреждени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роведение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Отчет об уро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Срок подготовки – около 3х нед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4516560" y="2822400"/>
            <a:ext cx="44766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grpSp>
        <p:nvGrpSpPr>
          <p:cNvPr id="117" name="Группа 3"/>
          <p:cNvGrpSpPr/>
          <p:nvPr/>
        </p:nvGrpSpPr>
        <p:grpSpPr>
          <a:xfrm>
            <a:off x="2664000" y="2852640"/>
            <a:ext cx="6300720" cy="3424680"/>
            <a:chOff x="2664000" y="2852640"/>
            <a:chExt cx="6300720" cy="3424680"/>
          </a:xfrm>
        </p:grpSpPr>
        <p:sp>
          <p:nvSpPr>
            <p:cNvPr id="118" name="Content Placeholder 4"/>
            <p:cNvSpPr/>
            <p:nvPr/>
          </p:nvSpPr>
          <p:spPr>
            <a:xfrm>
              <a:off x="2664000" y="2852640"/>
              <a:ext cx="630072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Координатор направления «День Экологии сознания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Мария Сахаров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Content Placeholder 4"/>
            <p:cNvSpPr/>
            <p:nvPr/>
          </p:nvSpPr>
          <p:spPr>
            <a:xfrm>
              <a:off x="3363840" y="4273920"/>
              <a:ext cx="51800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Электронная почта:  7515165</a:t>
              </a:r>
              <a:r>
                <a:rPr b="1" lang="en-US" sz="2000" spc="-1" strike="noStrike">
                  <a:solidFill>
                    <a:srgbClr val="16409e"/>
                  </a:solidFill>
                  <a:latin typeface="Calibri"/>
                </a:rPr>
                <a:t>@mail.r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Content Placeholder 4"/>
            <p:cNvSpPr/>
            <p:nvPr/>
          </p:nvSpPr>
          <p:spPr>
            <a:xfrm>
              <a:off x="2664000" y="5418000"/>
              <a:ext cx="45244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Официальный сайт прое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оугольник 9"/>
            <p:cNvSpPr/>
            <p:nvPr/>
          </p:nvSpPr>
          <p:spPr>
            <a:xfrm>
              <a:off x="2733840" y="4765680"/>
              <a:ext cx="618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Телефон: +7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(495) 789-47-4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оугольник 12"/>
            <p:cNvSpPr/>
            <p:nvPr/>
          </p:nvSpPr>
          <p:spPr>
            <a:xfrm>
              <a:off x="2664000" y="5695920"/>
              <a:ext cx="622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www.doit-together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4041720"/>
            <a:ext cx="27608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grpSp>
        <p:nvGrpSpPr>
          <p:cNvPr id="126" name="Группа 1"/>
          <p:cNvGrpSpPr/>
          <p:nvPr/>
        </p:nvGrpSpPr>
        <p:grpSpPr>
          <a:xfrm>
            <a:off x="4084560" y="3879720"/>
            <a:ext cx="3838680" cy="961920"/>
            <a:chOff x="4084560" y="3879720"/>
            <a:chExt cx="3838680" cy="961920"/>
          </a:xfrm>
        </p:grpSpPr>
        <p:sp>
          <p:nvSpPr>
            <p:cNvPr id="127" name="Content Placeholder 4"/>
            <p:cNvSpPr/>
            <p:nvPr/>
          </p:nvSpPr>
          <p:spPr>
            <a:xfrm>
              <a:off x="4142880" y="3879720"/>
              <a:ext cx="29347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Телефо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оугольник 9"/>
            <p:cNvSpPr/>
            <p:nvPr/>
          </p:nvSpPr>
          <p:spPr>
            <a:xfrm>
              <a:off x="4084560" y="4260240"/>
              <a:ext cx="383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+7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(916) 181-33-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2"/>
          <p:cNvGrpSpPr/>
          <p:nvPr/>
        </p:nvGrpSpPr>
        <p:grpSpPr>
          <a:xfrm>
            <a:off x="4084560" y="4689360"/>
            <a:ext cx="4664160" cy="890640"/>
            <a:chOff x="4084560" y="4689360"/>
            <a:chExt cx="4664160" cy="890640"/>
          </a:xfrm>
        </p:grpSpPr>
        <p:sp>
          <p:nvSpPr>
            <p:cNvPr id="130" name="Content Placeholder 4"/>
            <p:cNvSpPr/>
            <p:nvPr/>
          </p:nvSpPr>
          <p:spPr>
            <a:xfrm>
              <a:off x="4084560" y="4689360"/>
              <a:ext cx="23061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Электронная поч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оугольник 10"/>
            <p:cNvSpPr/>
            <p:nvPr/>
          </p:nvSpPr>
          <p:spPr>
            <a:xfrm>
              <a:off x="4355640" y="4998600"/>
              <a:ext cx="43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751565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@mail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Группа 4"/>
          <p:cNvGrpSpPr/>
          <p:nvPr/>
        </p:nvGrpSpPr>
        <p:grpSpPr>
          <a:xfrm>
            <a:off x="4084560" y="5446800"/>
            <a:ext cx="4575240" cy="847080"/>
            <a:chOff x="4084560" y="5446800"/>
            <a:chExt cx="4575240" cy="847080"/>
          </a:xfrm>
        </p:grpSpPr>
        <p:sp>
          <p:nvSpPr>
            <p:cNvPr id="133" name="Content Placeholder 4"/>
            <p:cNvSpPr/>
            <p:nvPr/>
          </p:nvSpPr>
          <p:spPr>
            <a:xfrm>
              <a:off x="4084560" y="5446800"/>
              <a:ext cx="33249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Официальный сайт прое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оугольник 12"/>
            <p:cNvSpPr/>
            <p:nvPr/>
          </p:nvSpPr>
          <p:spPr>
            <a:xfrm>
              <a:off x="4084560" y="5712480"/>
              <a:ext cx="457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www.doit-together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395280" y="2989440"/>
            <a:ext cx="3333600" cy="3400200"/>
          </a:xfrm>
          <a:prstGeom prst="rect">
            <a:avLst/>
          </a:prstGeom>
          <a:ln w="0">
            <a:noFill/>
          </a:ln>
        </p:spPr>
      </p:pic>
      <p:grpSp>
        <p:nvGrpSpPr>
          <p:cNvPr id="136" name="Группа 14"/>
          <p:cNvGrpSpPr/>
          <p:nvPr/>
        </p:nvGrpSpPr>
        <p:grpSpPr>
          <a:xfrm>
            <a:off x="4149720" y="3130560"/>
            <a:ext cx="4630680" cy="887400"/>
            <a:chOff x="4149720" y="3130560"/>
            <a:chExt cx="4630680" cy="887400"/>
          </a:xfrm>
        </p:grpSpPr>
        <p:sp>
          <p:nvSpPr>
            <p:cNvPr id="137" name="Content Placeholder 4"/>
            <p:cNvSpPr/>
            <p:nvPr/>
          </p:nvSpPr>
          <p:spPr>
            <a:xfrm>
              <a:off x="4149720" y="3130560"/>
              <a:ext cx="45122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Координатор направл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оугольник 16"/>
            <p:cNvSpPr/>
            <p:nvPr/>
          </p:nvSpPr>
          <p:spPr>
            <a:xfrm>
              <a:off x="4370400" y="3436560"/>
              <a:ext cx="441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Мария Саха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5:42:15Z</dcterms:created>
  <dc:creator>АМ</dc:creator>
  <dc:description/>
  <dc:language>en-US</dc:language>
  <cp:lastModifiedBy>Sea</cp:lastModifiedBy>
  <dcterms:modified xsi:type="dcterms:W3CDTF">2013-02-21T07:25:35Z</dcterms:modified>
  <cp:revision>175</cp:revision>
  <dc:subject/>
  <dc:title>Слайд 1</dc:title>
</cp:coreProperties>
</file>